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02B1-2949-4287-8493-5A63A180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1D3-0ADD-4A9D-B874-BD19A27D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B9B-97CF-4D00-A654-002690F1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450-489C-4647-8F00-5B2DE73D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0F3A-DC90-4AFA-95C3-D05844E2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7EA-CDCB-4108-9AA5-DC6D1805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336-52B4-4798-963D-D514CBB6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94C-A7B3-4AC0-AA6A-34D64A13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025-3CC1-4903-AADF-EA07414A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DC2-C4E2-4D59-A4DB-BB7360DB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BC1-1C35-418A-8974-9F26BBA1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D17-C07E-4901-AB7F-3460B8B9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87AF-5846-426A-BE0E-5FA8C8EE5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pport de com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ison des différentes méthodes de compression sur plusieurs fich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60948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819520" y="1676520"/>
          <a:ext cx="2514600" cy="55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676520"/>
                    <a:ext cx="2514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57800" y="16765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68580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501480"/>
          <a:ext cx="9144000" cy="585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1480"/>
                    <a:ext cx="9144000" cy="585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49520" y="617220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u : taille initiale. Rouge : taille fi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600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 760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103320"/>
          <a:ext cx="8077320" cy="675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3320"/>
                    <a:ext cx="807732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419720" y="13716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9 878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6880" y="598500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eurs 24 bits 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0"/>
          <a:ext cx="815364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15364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87120" y="624852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 couleurs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19051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 686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62120" y="0"/>
          <a:ext cx="777240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7724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3520" y="0"/>
          <a:ext cx="815328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15328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33920" y="1828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4 454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3040" y="61722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2kbps, 16bits, 22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0"/>
          <a:ext cx="7696080" cy="68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69608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6:17:19Z</dcterms:created>
  <dc:creator>Monchamps</dc:creator>
  <dc:description/>
  <dc:language>en-US</dc:language>
  <cp:lastModifiedBy>Monchamps</cp:lastModifiedBy>
  <dcterms:modified xsi:type="dcterms:W3CDTF">2004-05-16T20:01:31Z</dcterms:modified>
  <cp:revision>21</cp:revision>
  <dc:subject/>
  <dc:title>Rapport de compression</dc:title>
</cp:coreProperties>
</file>